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-360" y="-6388560"/>
            <a:ext cx="360" cy="143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54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90720" y="777960"/>
            <a:ext cx="511632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E5B-DBEC-4417-84AD-88034C6E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233-EE41-4FA4-BF04-9FFFD4ED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47A-8F82-4ACA-9E3D-664A9DD0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90E-21DE-41F2-AEA8-53D41E32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850D-CB32-4C91-979F-B0CBB039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A3CB-C344-4633-946D-1254130D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8680-E31A-4F98-8E9A-4C2F5583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3B28-4FC3-4132-BEA1-C4F4F2B8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AF31-6DE8-4D6A-8E70-A1076399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15DB-6BF6-4A70-810C-8060C7BC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C85D-865F-43E4-8F34-DD5D2611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7E7-B7BA-4CDC-9A97-9F7E7173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9439-5830-435C-9359-24449AF0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A992-D8FC-4A85-A06D-2F477EAA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5C77-4EF7-4028-B532-FD663FBE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9D8D-A92C-41A2-8ECA-AA2457EC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87B5-60F1-4BCF-A43A-47521BF6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81C4-EAAE-48EF-81F1-087D8B44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5C3-4140-410E-8558-F6239D7F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79F-5756-4980-B6C0-24823A63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EA3-F014-4C70-8939-BED8B52A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3D8D-FA38-426E-9ED8-0996EF05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913-69E1-4D1A-99CA-6F680F8E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1667-7EF3-4B37-845A-BD9F1F42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600" y="624348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8BD53-F8B4-40DF-8396-5EA1A8B75E9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812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20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22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2640" y="2968560"/>
                <a:ext cx="3697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6736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7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03DF1-4A60-46AD-9432-01EA96384946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Τίτλος Εργασία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Μέλη ομάδας - Κωδικό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Περιγραφή συστήματο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Γενικά για το σύστημ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Παραδοχέ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Διάγραμμα περιπτώσεων χρήση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85800" y="1989000"/>
            <a:ext cx="5972400" cy="47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Διάγραμμα Δραστηριοτήτω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632560" cy="4609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ssilios Karakoidas</dc:creator>
  <dc:description/>
  <dc:language>en-US</dc:language>
  <cp:lastModifiedBy>Vassilios Karakoidas</cp:lastModifiedBy>
  <cp:revision>0</cp:revision>
  <dc:subject/>
  <dc:title>Ανάλυση Πληροφοριακών Συστημάτων</dc:title>
</cp:coreProperties>
</file>